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commentAuthors.xml><?xml version="1.0" encoding="utf-8"?>
<p:cmAuthorLst xmlns:p="http://schemas.openxmlformats.org/presentationml/2006/main">
  <p:cmAuthor id="0" name="momo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1-20T10:38:33.461000000" idx="1">
    <p:pos x="2969" y="3295"/>
    <p:text>en ce qu'elle permet, de part l'enumération des items a checker, de guider l'opération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581-E3D4-41B0-A200-25F258C5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E85-3BC3-46B2-BC19-FA9B3E54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0CB-3B94-4708-8219-549E28AC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AE5-C6BF-461C-8F39-35B486C3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A66-5F1E-4A2B-9B4C-965F7065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EAF-D736-4EB1-877F-DBBB5564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499-27F2-41A1-BB90-433B8B56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CF6-B259-4A28-B222-030CA443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E0E-B94A-4C5E-9EF1-6E19A2BE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AB5-B35C-4B60-962E-426A3C26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78A-970C-4587-92D2-3299AF2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AA1-37CA-4E8E-8FA1-7570610F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5477-5CC7-4DE3-B380-2FDB912D15C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IDC : Tenue de caisse dans une sta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3"/>
          <p:cNvSpPr/>
          <p:nvPr/>
        </p:nvSpPr>
        <p:spPr>
          <a:xfrm>
            <a:off x="5384880" y="6067440"/>
            <a:ext cx="37116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rtie : Enregistrement des produits vendus et encaissement  des pai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stion de la cai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4"/>
          <p:cNvSpPr/>
          <p:nvPr/>
        </p:nvSpPr>
        <p:spPr>
          <a:xfrm>
            <a:off x="200160" y="6000840"/>
            <a:ext cx="268128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trée : Nécéssité d’encaiss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6"/>
          <p:cNvSpPr/>
          <p:nvPr/>
        </p:nvSpPr>
        <p:spPr>
          <a:xfrm>
            <a:off x="452520" y="1071720"/>
            <a:ext cx="528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ôte de ca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Gérant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(contact par téléphone et présence occassionnel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Arial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7"/>
          <p:cNvSpPr/>
          <p:nvPr/>
        </p:nvSpPr>
        <p:spPr>
          <a:xfrm>
            <a:off x="380880" y="278604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signes informe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8"/>
          <p:cNvSpPr/>
          <p:nvPr/>
        </p:nvSpPr>
        <p:spPr>
          <a:xfrm>
            <a:off x="1666800" y="2786040"/>
            <a:ext cx="2428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niteur Po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isse « Total 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isse « TVA 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iche de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ue de l’ensemble de la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9"/>
          <p:cNvSpPr/>
          <p:nvPr/>
        </p:nvSpPr>
        <p:spPr>
          <a:xfrm>
            <a:off x="4095720" y="2786040"/>
            <a:ext cx="1857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dalité de pai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tecteur de faux bil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ception sociale (/cli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0"/>
          <p:cNvSpPr/>
          <p:nvPr/>
        </p:nvSpPr>
        <p:spPr>
          <a:xfrm>
            <a:off x="3452760" y="4643280"/>
            <a:ext cx="242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niteur Po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isse « Total 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isse « TVA 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iche de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11"/>
          <p:cNvSpPr/>
          <p:nvPr/>
        </p:nvSpPr>
        <p:spPr>
          <a:xfrm>
            <a:off x="1452600" y="4714920"/>
            <a:ext cx="200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ôte de ca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12"/>
          <p:cNvSpPr/>
          <p:nvPr/>
        </p:nvSpPr>
        <p:spPr>
          <a:xfrm>
            <a:off x="6667560" y="1000080"/>
            <a:ext cx="29289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onnaissances relatives au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onctionnement des cais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oniteur Pom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100" spc="-1" strike="noStrike">
                <a:solidFill>
                  <a:srgbClr val="333399"/>
                </a:solidFill>
                <a:latin typeface="Arial"/>
              </a:rPr>
              <a:t>modalités de pai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100" spc="-1" strike="noStrike">
                <a:solidFill>
                  <a:srgbClr val="333399"/>
                </a:solidFill>
                <a:latin typeface="Arial"/>
              </a:rPr>
              <a:t>Element lavages / K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TVA associée aux produits bout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Gestion de l’outil de paiemen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Reconnaître un faux bill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Rendre rapidement la monna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anipulation Carte Pai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Utilisation efficace et pertinente des caisses « Total » et « TVA 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Utilisation de la fiche de ses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avoir quel client était à quel pom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avoir quand faire une sortie de cais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anger la bobine de papier / cais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tégrer l’encaissement dans un processus plus glob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Cas Particulier : vol, probleme clientèle, 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Attention divisée : Gestion taches simultané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onner les bonnes explications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Politesse, Accueil, Patience, Adaptabilit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Accessible, disponible mais pas tr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Vigilanc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6"/>
          <p:cNvSpPr/>
          <p:nvPr/>
        </p:nvSpPr>
        <p:spPr>
          <a:xfrm>
            <a:off x="309600" y="3286080"/>
            <a:ext cx="1428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llègues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utres hotes de cais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é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2"/>
          <p:cNvSpPr/>
          <p:nvPr/>
        </p:nvSpPr>
        <p:spPr>
          <a:xfrm>
            <a:off x="8381880" y="1427040"/>
            <a:ext cx="138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100" spc="-1" strike="noStrike">
                <a:solidFill>
                  <a:srgbClr val="00b050"/>
                </a:solidFill>
                <a:latin typeface="Arial"/>
              </a:rPr>
              <a:t>Detenues par hôte de caisse et clien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colade fermante 13"/>
          <p:cNvSpPr/>
          <p:nvPr/>
        </p:nvSpPr>
        <p:spPr>
          <a:xfrm>
            <a:off x="8256600" y="1479600"/>
            <a:ext cx="196920" cy="311040"/>
          </a:xfrm>
          <a:custGeom>
            <a:avLst/>
            <a:gdLst>
              <a:gd name="textAreaLeft" fmla="*/ 0 w 196920"/>
              <a:gd name="textAreaRight" fmla="*/ 70920 w 196920"/>
              <a:gd name="textAreaTop" fmla="*/ 5040 h 311040"/>
              <a:gd name="textAreaBottom" fmla="*/ 306000 h 31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0"/>
                  <a:pt x="10800" y="1139"/>
                </a:cubicBezTo>
                <a:lnTo>
                  <a:pt x="10800" y="9661"/>
                </a:lnTo>
                <a:cubicBezTo>
                  <a:pt x="10800" y="10231"/>
                  <a:pt x="16200" y="10800"/>
                  <a:pt x="21600" y="10800"/>
                </a:cubicBezTo>
                <a:cubicBezTo>
                  <a:pt x="16200" y="10800"/>
                  <a:pt x="10800" y="11370"/>
                  <a:pt x="10800" y="11939"/>
                </a:cubicBezTo>
                <a:lnTo>
                  <a:pt x="10800" y="20461"/>
                </a:lnTo>
                <a:cubicBezTo>
                  <a:pt x="10800" y="2103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26:54Z</dcterms:created>
  <dc:creator>Serge Aries</dc:creator>
  <dc:description/>
  <dc:language>en-US</dc:language>
  <cp:lastModifiedBy>momo</cp:lastModifiedBy>
  <dcterms:modified xsi:type="dcterms:W3CDTF">2007-12-10T02:45:39Z</dcterms:modified>
  <cp:revision>23</cp:revision>
  <dc:subject/>
  <dc:title>Activité</dc:title>
</cp:coreProperties>
</file>